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18CA-5688-4ABE-AC2B-9FA2C140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5B9D-F207-4D3C-858C-9CEA44E5F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2CF-AAB5-41EE-85D5-69F922D6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84C-6DA0-49AC-862B-4BE02CE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003-FB55-4528-9647-B070D7A4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64B-8843-4AD3-A5A1-FDA79A6B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EF26-218D-4E42-AA43-F505A792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AE5A-DB40-43F1-9BE9-FBEC09DE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55C9-153C-4FC5-94A2-6BDC84F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B25B-033F-4B5D-B575-9E22EBE4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372F-62EB-46B7-9461-834421CA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A13A-45EE-4596-90B6-10034AF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7999-7ACF-435A-80D2-4B0DA60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785-9A93-45D4-A79C-83790A62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0AAD-9474-474E-8306-E317893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B948-4294-4CE8-BE03-B56DF35A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E22E-08AF-4C6D-B4E5-08652185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A266-344A-482A-9B69-731FD2EF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1D2E-A9B8-4C20-8640-FD836862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135-282F-4E34-8BC7-5C7831B4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4C3-F53D-4EBD-8D0A-3712CD9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ED0-22F1-4CE2-B399-D59F8940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0D1-28BA-4BAB-94C8-26F0DB2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3CB-0663-433F-A3C6-1D21CCF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66D1-E8CC-4E34-BB99-C9298911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1CD-E233-49DB-889F-31D99FC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B0E6-A67B-4520-BE20-87F8A264C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7101-DFA0-4BE9-B410-A1ECE3A683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Cheryl.potts@pisd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ublic Forum Debat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FD: What is it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cussion or debat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4-3-4-4-3-2-2-3-1-1          2 for pre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rpose of each part of the deb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 wri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se Writing Templ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Name of Team ______________________   Public Forum Case for __________(Month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General open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Link to the topic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o the affirmative/negative supports the position that cell phone usage should/should not be legal while operating a motor vehicle. Our reasons include the following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1: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 (supporting Reason #1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proves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2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pporting reason #2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Reason #3(optional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reason #3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a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a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bpoint b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Supporting Quote (for subpoint b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Conclusion(summary of team position):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guments: Cogent or Fallacio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s of falla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so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seudo-argu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Ballot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my chanc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can I do to wi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should I avoi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ablishing Grou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the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vision of 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aker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st Sh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in T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bating Health Car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 S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g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ench Health Care b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ther health care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ntact Inform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ryl Potts, Karen Wilbank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 Weinbrenner, Coach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Senior H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Cheryl.potts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69.752.943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ti.weinbrenner@pisd.e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7:58:45Z</dcterms:created>
  <dc:creator>Plano ISD</dc:creator>
  <dc:description/>
  <dc:language>en-US</dc:language>
  <cp:lastModifiedBy>Steffany Batik</cp:lastModifiedBy>
  <dcterms:modified xsi:type="dcterms:W3CDTF">2009-10-11T19:53:50Z</dcterms:modified>
  <cp:revision>9</cp:revision>
  <dc:subject/>
  <dc:title>Public Forum Debate</dc:title>
</cp:coreProperties>
</file>